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F0C2-82CF-417E-A8CC-4A6FCEE9E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9503-63FE-46E2-BDAB-A08D2577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40F3-DC60-4520-99A5-AFE9B1F96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BFB2-F797-4E58-9FCF-61B42A66E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EFA9-596A-4B95-B33C-E83B23BA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01B1-AE65-47DF-A9FB-80E11A42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BB91-7B12-4853-9CCE-59EF0636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5CC4-8EB7-4794-9400-D891AC46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489C-6D7D-4566-A739-C5049978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7424-8513-4359-A89A-675798C8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42E5-0785-491E-B880-A4C01CC1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6CCF-29E8-48FA-82E5-6273CCE9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D797-9FEC-4B3C-9BD1-A43B51D94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5.wmf"/><Relationship Id="rId1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200" spc="-1" strike="noStrike">
                <a:solidFill>
                  <a:srgbClr val="000000"/>
                </a:solidFill>
                <a:latin typeface="Arial"/>
              </a:rPr>
              <a:t>collective nou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863640" cy="71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48360" y="4508640"/>
            <a:ext cx="4248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295280" cy="971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5280" y="3141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557360"/>
            <a:ext cx="828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8000" y="242712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Look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4221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ound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4797360"/>
            <a:ext cx="835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6021360"/>
            <a:ext cx="16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Feel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39640" y="4870440"/>
            <a:ext cx="808200" cy="81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116000" y="5157720"/>
            <a:ext cx="792000" cy="635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24360" y="170028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0920" y="3500280"/>
            <a:ext cx="6518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NZ" sz="6600" spc="-1" strike="noStrike">
                <a:solidFill>
                  <a:srgbClr val="333399"/>
                </a:solidFill>
                <a:latin typeface="Arial"/>
              </a:rPr>
              <a:t> collect</a:t>
            </a: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50920" y="2565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school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f 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941720"/>
            <a:ext cx="64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elonging to a 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team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, being a part of a 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group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, being in a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committee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, being part of the 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herd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2124000" y="1628640"/>
            <a:ext cx="608040" cy="64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7812000" y="1557360"/>
            <a:ext cx="1024200" cy="784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2340000" y="1844640"/>
            <a:ext cx="608040" cy="647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2556000" y="2060640"/>
            <a:ext cx="608040" cy="647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3564000" y="1700280"/>
            <a:ext cx="608040" cy="647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0"/>
          <a:stretch/>
        </p:blipFill>
        <p:spPr>
          <a:xfrm>
            <a:off x="3059280" y="1844640"/>
            <a:ext cx="607680" cy="647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1"/>
          <a:stretch/>
        </p:blipFill>
        <p:spPr>
          <a:xfrm>
            <a:off x="2843280" y="1557360"/>
            <a:ext cx="608040" cy="647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2"/>
          <a:stretch/>
        </p:blipFill>
        <p:spPr>
          <a:xfrm>
            <a:off x="5580000" y="1484280"/>
            <a:ext cx="1023840" cy="784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3"/>
          <a:stretch/>
        </p:blipFill>
        <p:spPr>
          <a:xfrm>
            <a:off x="6227640" y="1557360"/>
            <a:ext cx="1024200" cy="784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4"/>
          <a:stretch/>
        </p:blipFill>
        <p:spPr>
          <a:xfrm>
            <a:off x="6877080" y="1628640"/>
            <a:ext cx="1023840" cy="784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580000" y="249228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flock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f bi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5"/>
          <a:stretch/>
        </p:blipFill>
        <p:spPr>
          <a:xfrm>
            <a:off x="3924360" y="1916280"/>
            <a:ext cx="6080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7:55:22Z</dcterms:created>
  <dc:creator>Ministry of Education</dc:creator>
  <dc:description/>
  <dc:language>en-US</dc:language>
  <cp:lastModifiedBy>Ministry of Education</cp:lastModifiedBy>
  <dcterms:modified xsi:type="dcterms:W3CDTF">2007-04-21T10:16:03Z</dcterms:modified>
  <cp:revision>24</cp:revision>
  <dc:subject/>
  <dc:title>Simile</dc:title>
</cp:coreProperties>
</file>